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F504-9050-430E-9234-76B7CA463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5FE2-3132-412F-A953-B40139CEDA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16DB-68F9-4624-83D8-56621834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C5CB-D3DD-4FE2-AB28-6FB9E5B9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72BEE-8097-4D3B-881A-F4BE5F2D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56461-662C-4179-B839-49B29188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01172-2582-4C3D-B7AF-2477C5F1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3899E-9253-4A4A-BDF1-D37B762A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BFE15-D668-4281-80DD-7539C904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4FBD8-A277-4B41-8AB4-B36AD759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AD411-DC93-4E82-8D6E-492D9EAB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74004-4828-48F5-8638-43D24FB2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85069-ECBF-4338-BF6A-55B20590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6CF-06C3-4062-BBFC-E1A0B718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DC15-C521-466A-929C-82744E32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5FA2-37F3-4068-B4A4-E19157B1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BC0D-A39B-4A02-9E04-C3B091DE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669C-4E31-49B2-8DAD-691DBB53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9737-F006-4E90-BDB4-EBD2000E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A871-3DF1-47FF-AE8D-CD97717C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0ED6-569F-4333-805B-BC56AEF1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6FB3-B3A4-47D0-B83B-041BF415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FF1-0D4D-4840-9D7E-0BE38D7C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858F-6511-4511-B97A-BAC4743D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45AD-7710-469E-9960-FA529077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BE19-C624-4230-B36E-357FA132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8870-27F7-4CF1-99D8-3633C9F5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F03E-5D6D-4373-BE7D-7B6CE109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A8A51-08FF-41FC-BC3D-D67303E0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66C1F-8AEE-4282-999D-85C190D6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F9A39-1EE7-4A7C-AD32-6A89F686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88ECC-2287-4F48-A695-8583D43E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AFC85-7157-4574-843D-9E39E052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0EAF-AC64-4368-BABA-09C560F4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C7185-D3CF-408E-BBCF-01C8009C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CD708-EC8F-4BDB-A3E7-4A3D87EE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895F9-5425-4EB3-B3E9-68A44D5E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DB016-B8CE-4D62-8C4A-DAAE4C2B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3D70F-65DC-4750-B3AE-589F59A0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EE3EE-F535-4DE4-AD70-8E14840E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0979C-D8AA-4D11-A66C-79946B65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01E21-46A7-4B61-8C98-49A47E81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CDE67-A3D6-4ACF-B456-6BCA4B3F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1B82D-BB7F-4B18-9D7C-8873656A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0B9-938F-47A7-94B4-3516B8C0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5714C-26A4-4C83-AA3B-42227533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F33EA-A7F9-4BF0-ABE9-8C530828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85E2E-28FA-4B37-8251-E325B837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A0082-ADB4-46CB-BD16-310B810B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768E6-F8B4-4B54-B071-97588275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BDF26-E6F6-4D76-AE6D-6BF7A478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F5598-192D-41DE-8872-A155CEFE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11563-B00F-4A97-AC92-DD9B2437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DE4D9-CA61-482C-855E-ADBDF126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BC770-2681-47D4-913B-E58EF6F0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183-1265-49FE-95D8-542B7D56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C7154-CEEC-4F30-A768-9D7AA954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5CA76-438E-43C8-99D0-3DCE751B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808AF-CCF1-41E3-B20F-282AB2EA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F5852-A8F8-45C9-8E3A-090A4CE8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72CF0-9B3A-4915-9645-4D83556B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02176-0FBC-453F-976A-57D50A14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E9153-D952-4D61-AA2C-8C785432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CB7EB-CC31-4F67-92FB-7EFD8BE2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58019-A029-4F95-9AF2-BD1A248B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C9D8D-B8A1-449C-800E-D44AF05F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F92B-88CD-47B0-9134-0F1DB9B5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21D4C-65B7-4CD1-9537-35C242E0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5424D-C253-4743-A875-2E677E32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7719C-E1BA-4E51-80AE-50A37676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94684-B67C-4606-B17E-39769DB4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F3727-E45C-4E09-BD2F-7AEDEF84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3375A-2185-4041-9344-F09ED367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1C7FC-D8A2-4C40-8C6A-BC0AA292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24DDB-126E-4957-A929-72CE69D2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C5D29-1B2B-495D-B5D6-19F875C8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2DE3C-1F3F-410E-8073-FD2C64BE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6A6-4AA2-4CB3-87D2-14EFF42A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D9609-9D10-4126-AA3B-6320364A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C0FCB-8EEE-4EC1-8113-6516F246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19E9F-2EFD-4D16-8073-43C526C7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1EF28-4AF2-4218-8DF7-44A03E0D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F8200-A10F-4C50-AFE2-97F9077A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F98A3-6DA2-4473-8D92-1B21A950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EAE20-3E23-4E98-92BD-735CBEB4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E0FD8-23BE-49B1-B57F-978C3912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ADC72-598A-4126-B066-76665B89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AF395-BDBE-47E5-909F-86615584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55E-AD07-4840-B8A7-89319956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993B1-E32D-406E-A332-9C2B4055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73B75-DA5F-4937-BF8E-C893ED7A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58019-594F-4E3B-9604-9AE38A4C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9CDA6-B1DB-4C28-B913-B77B2F22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D1D9A-723F-41E9-81BB-453F5E5B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1CB61-2CB1-42FF-A9BD-1E18A4EF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69F5F-2F63-4AF1-B069-FC04159D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12560-F529-45B5-8BC1-F268EAC7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C3344-E05E-4EDC-912A-F7CD69AF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665C9-D875-4C03-917B-9C139E40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D36E-4250-476E-A618-097FBA01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74EB0-A248-4B94-9736-56FB5724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D4295-CDC5-448E-9727-F3A37527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D653A-7090-4947-8BF4-829362B5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26749-C7F7-409A-A616-FA4C7166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9F46F-B8FD-4CB7-9349-4F023DF5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37DE8-0E45-423E-8868-1CA5CDA9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C8BAD-045C-4E50-8A1C-F76F7978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37EB8-16BA-4E9C-BA73-546CA744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CC56C-C34B-4BF3-87FE-8C38D4ED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60D3F-FFAC-4A51-8DDE-4319E64D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ugaoni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ravougaoni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356B-2219-4D29-834B-9FD89521AC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avougaoni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ravougaonik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653C-6288-4D8C-BF6B-946CB69CCB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ravougaoni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ravougaonik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E266-176F-4B2A-8573-D15BE49E61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4FE4-723A-44B3-9EC3-15C0ECED10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ravougaoni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ravougaoni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ravougaonik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ravougaonik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76EE-039E-415D-A777-F1879B64B3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ravougaoni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ravougaoni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ravougaoni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ravougaoni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73BE-03F8-485E-B21F-ED79D2B92A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ravougaoni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ravougaonik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BCFF-BF15-4C17-9789-AC05FD1790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ravougaoni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ravougaoni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7BD8-99AE-4117-902E-4C0B22E406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ravougaoni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ravougaoni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2D46-2791-4BE1-9986-C2A5A6240D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Line 5"/>
          <p:cNvSpPr/>
          <p:nvPr/>
        </p:nvSpPr>
        <p:spPr>
          <a:xfrm>
            <a:off x="609480" y="3200400"/>
            <a:ext cx="7696440" cy="0"/>
          </a:xfrm>
          <a:prstGeom prst="line">
            <a:avLst/>
          </a:prstGeom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kvir za tekst 4"/>
          <p:cNvSpPr/>
          <p:nvPr/>
        </p:nvSpPr>
        <p:spPr>
          <a:xfrm>
            <a:off x="1850400" y="1854360"/>
            <a:ext cx="570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ДЕНТАЛНА ОКЛУЗИЈА 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ФУНКЦИЈА ВИЛИ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59840" cy="12855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218960" y="2971440"/>
            <a:ext cx="7924680" cy="453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Стоматогнати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систем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Максилофацијални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систем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Мастикаторни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систем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Мастикаторни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апарат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Орган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за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жвакањ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472320" y="1752480"/>
            <a:ext cx="8373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Скуп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органа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ткива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која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заједнички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обављају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низ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виталних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функ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организ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8"/>
          <p:cNvSpPr/>
          <p:nvPr/>
        </p:nvSpPr>
        <p:spPr>
          <a:xfrm>
            <a:off x="685800" y="1371600"/>
            <a:ext cx="8153280" cy="0"/>
          </a:xfrm>
          <a:prstGeom prst="line">
            <a:avLst/>
          </a:prstGeom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3" descr="D:\Documents and Settings\toma\My Documents\My Pictures\za prezentaciju.jpg"/>
          <p:cNvPicPr/>
          <p:nvPr/>
        </p:nvPicPr>
        <p:blipFill>
          <a:blip r:embed="rId1"/>
          <a:stretch/>
        </p:blipFill>
        <p:spPr>
          <a:xfrm>
            <a:off x="4925880" y="1828800"/>
            <a:ext cx="4699080" cy="50292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1"/>
          <p:cNvSpPr/>
          <p:nvPr/>
        </p:nvSpPr>
        <p:spPr>
          <a:xfrm>
            <a:off x="228600" y="21096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Corbel"/>
              </a:rPr>
              <a:t>Орофацијални систем представља скуп органа и ткива различите анатомске и хистолошке грађе, различитих морфолошких карактеристика који су обједињени заједничким функцијама као што су жвакање, гутање, говор, дисање и физиогномски изглед.</a:t>
            </a:r>
            <a:r>
              <a:rPr b="1" lang="sr-Latn-R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Corbel"/>
              </a:rPr>
              <a:t>Структуре које чине орофацијални систем су</a:t>
            </a:r>
            <a:r>
              <a:rPr b="1" lang="sr-Latn-RS" sz="2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457200" y="19810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емпоромандибуларни зглобов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470880" y="2351160"/>
            <a:ext cx="29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Горња и доња вил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470520" y="2703600"/>
            <a:ext cx="33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уби са пародонцијум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457200" y="3086280"/>
            <a:ext cx="33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Мастикаторни мишић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482040" y="3456000"/>
            <a:ext cx="45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адхиоидни и подхиоидни мишић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480960" y="3824280"/>
            <a:ext cx="40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Мишићи језика, врата и раме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8"/>
          <p:cNvSpPr/>
          <p:nvPr/>
        </p:nvSpPr>
        <p:spPr>
          <a:xfrm>
            <a:off x="484560" y="4194000"/>
            <a:ext cx="50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Централни и периферни нервни сист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4"/>
          <p:cNvSpPr/>
          <p:nvPr/>
        </p:nvSpPr>
        <p:spPr>
          <a:xfrm>
            <a:off x="2023560" y="446040"/>
            <a:ext cx="48549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66"/>
                </a:solidFill>
                <a:latin typeface="Arial Black"/>
              </a:rPr>
              <a:t>ОРОФАЦИЈАЛНИ СИС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2" name="Diagram 2"/>
          <p:cNvGrpSpPr/>
          <p:nvPr/>
        </p:nvGrpSpPr>
        <p:grpSpPr>
          <a:xfrm>
            <a:off x="1444680" y="1462680"/>
            <a:ext cx="6476760" cy="4357440"/>
            <a:chOff x="1444680" y="1462680"/>
            <a:chExt cx="6476760" cy="4357440"/>
          </a:xfrm>
        </p:grpSpPr>
        <p:sp>
          <p:nvSpPr>
            <p:cNvPr id="413" name="_s1028"/>
            <p:cNvSpPr/>
            <p:nvPr/>
          </p:nvSpPr>
          <p:spPr>
            <a:xfrm>
              <a:off x="1444680" y="4274640"/>
              <a:ext cx="2085480" cy="1541880"/>
            </a:xfrm>
            <a:prstGeom prst="ellipse">
              <a:avLst/>
            </a:prstGeom>
            <a:blipFill rotWithShape="0">
              <a:blip r:embed="rId1">
                <a:alphaModFix amt="50000"/>
              </a:blip>
              <a:srcRect/>
              <a:stretch/>
            </a:blipFill>
            <a:ln w="9360">
              <a:solidFill>
                <a:srgbClr val="5a63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_s1029"/>
            <p:cNvSpPr/>
            <p:nvPr/>
          </p:nvSpPr>
          <p:spPr>
            <a:xfrm>
              <a:off x="4397760" y="1462680"/>
              <a:ext cx="75708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_s1030"/>
            <p:cNvSpPr/>
            <p:nvPr/>
          </p:nvSpPr>
          <p:spPr>
            <a:xfrm>
              <a:off x="3248640" y="3323160"/>
              <a:ext cx="2090160" cy="1496160"/>
            </a:xfrm>
            <a:prstGeom prst="ellipse">
              <a:avLst/>
            </a:prstGeom>
            <a:blipFill rotWithShape="0">
              <a:blip r:embed="rId2">
                <a:alphaModFix amt="50000"/>
              </a:blip>
              <a:srcRect/>
              <a:stretch/>
            </a:blipFill>
            <a:ln w="9360">
              <a:solidFill>
                <a:srgbClr val="168b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_s1031"/>
            <p:cNvSpPr/>
            <p:nvPr/>
          </p:nvSpPr>
          <p:spPr>
            <a:xfrm>
              <a:off x="7163640" y="3391200"/>
              <a:ext cx="7578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_s1032"/>
            <p:cNvSpPr/>
            <p:nvPr/>
          </p:nvSpPr>
          <p:spPr>
            <a:xfrm>
              <a:off x="5062680" y="4322520"/>
              <a:ext cx="2090520" cy="1497600"/>
            </a:xfrm>
            <a:prstGeom prst="ellipse">
              <a:avLst/>
            </a:prstGeom>
            <a:blipFill rotWithShape="0">
              <a:blip r:embed="rId3">
                <a:alphaModFix amt="50000"/>
              </a:blip>
              <a:srcRect/>
              <a:stretch/>
            </a:blipFill>
            <a:ln w="936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_s1033"/>
            <p:cNvSpPr/>
            <p:nvPr/>
          </p:nvSpPr>
          <p:spPr>
            <a:xfrm>
              <a:off x="4397760" y="5320080"/>
              <a:ext cx="75708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_s1034"/>
            <p:cNvSpPr/>
            <p:nvPr/>
          </p:nvSpPr>
          <p:spPr>
            <a:xfrm>
              <a:off x="3225600" y="1689480"/>
              <a:ext cx="2090520" cy="1496160"/>
            </a:xfrm>
            <a:prstGeom prst="ellipse">
              <a:avLst/>
            </a:prstGeom>
            <a:blipFill rotWithShape="0">
              <a:blip r:embed="rId4">
                <a:alphaModFix amt="50000"/>
              </a:blip>
              <a:srcRect/>
              <a:stretch/>
            </a:blipFill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_s1035"/>
            <p:cNvSpPr/>
            <p:nvPr/>
          </p:nvSpPr>
          <p:spPr>
            <a:xfrm>
              <a:off x="1631520" y="3391200"/>
              <a:ext cx="75708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Pravougaonik 12"/>
          <p:cNvSpPr/>
          <p:nvPr/>
        </p:nvSpPr>
        <p:spPr>
          <a:xfrm>
            <a:off x="2047320" y="481500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0066"/>
                </a:solidFill>
                <a:latin typeface="Arial"/>
              </a:rPr>
              <a:t>ТМ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ravougaonik 13"/>
          <p:cNvSpPr/>
          <p:nvPr/>
        </p:nvSpPr>
        <p:spPr>
          <a:xfrm>
            <a:off x="5392800" y="487188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0066"/>
                </a:solidFill>
                <a:latin typeface="Arial"/>
              </a:rPr>
              <a:t>Мишић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ravougaonik 14"/>
          <p:cNvSpPr/>
          <p:nvPr/>
        </p:nvSpPr>
        <p:spPr>
          <a:xfrm>
            <a:off x="3878280" y="38606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0066"/>
                </a:solidFill>
                <a:latin typeface="Arial"/>
              </a:rPr>
              <a:t>ЦН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ravougaonik 15"/>
          <p:cNvSpPr/>
          <p:nvPr/>
        </p:nvSpPr>
        <p:spPr>
          <a:xfrm>
            <a:off x="3581280" y="2209680"/>
            <a:ext cx="14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000" spc="-1" strike="noStrike">
                <a:solidFill>
                  <a:srgbClr val="ff0066"/>
                </a:solidFill>
                <a:latin typeface="Arial"/>
              </a:rPr>
              <a:t>Оклуз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21"/>
          <p:cNvSpPr/>
          <p:nvPr/>
        </p:nvSpPr>
        <p:spPr>
          <a:xfrm flipV="1">
            <a:off x="2666880" y="2971800"/>
            <a:ext cx="457200" cy="990720"/>
          </a:xfrm>
          <a:prstGeom prst="line">
            <a:avLst/>
          </a:prstGeom>
          <a:ln cap="sq" w="57240">
            <a:solidFill>
              <a:srgbClr val="ff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22"/>
          <p:cNvSpPr/>
          <p:nvPr/>
        </p:nvSpPr>
        <p:spPr>
          <a:xfrm>
            <a:off x="5334120" y="2971800"/>
            <a:ext cx="533160" cy="990720"/>
          </a:xfrm>
          <a:prstGeom prst="line">
            <a:avLst/>
          </a:prstGeom>
          <a:ln cap="sq" w="57240">
            <a:solidFill>
              <a:srgbClr val="ff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23"/>
          <p:cNvSpPr/>
          <p:nvPr/>
        </p:nvSpPr>
        <p:spPr>
          <a:xfrm flipH="1">
            <a:off x="3608280" y="5124600"/>
            <a:ext cx="1371600" cy="0"/>
          </a:xfrm>
          <a:prstGeom prst="line">
            <a:avLst/>
          </a:prstGeom>
          <a:ln cap="sq" w="57240">
            <a:solidFill>
              <a:srgbClr val="ff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231840" y="158760"/>
            <a:ext cx="8485200" cy="13413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1752480" y="2327040"/>
            <a:ext cx="8229600" cy="453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3200" spc="-1" strike="noStrike">
                <a:solidFill>
                  <a:srgbClr val="ffffff"/>
                </a:solidFill>
                <a:latin typeface="Corbel"/>
              </a:rPr>
              <a:t>Жвакање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3200" spc="-1" strike="noStrike">
                <a:solidFill>
                  <a:srgbClr val="ffffff"/>
                </a:solidFill>
                <a:latin typeface="Corbel"/>
              </a:rPr>
              <a:t>Гутање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3200" spc="-1" strike="noStrike">
                <a:solidFill>
                  <a:srgbClr val="ffffff"/>
                </a:solidFill>
                <a:latin typeface="Corbel"/>
              </a:rPr>
              <a:t>Говор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3200" spc="-1" strike="noStrike">
                <a:solidFill>
                  <a:srgbClr val="ffffff"/>
                </a:solidFill>
                <a:latin typeface="Corbel"/>
              </a:rPr>
              <a:t>Дисање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3200" spc="-1" strike="noStrike">
                <a:solidFill>
                  <a:srgbClr val="ffffff"/>
                </a:solidFill>
                <a:latin typeface="Corbel"/>
              </a:rPr>
              <a:t>Сисање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3200" spc="-1" strike="noStrike">
                <a:solidFill>
                  <a:srgbClr val="ffffff"/>
                </a:solidFill>
                <a:latin typeface="Corbel"/>
              </a:rPr>
              <a:t>Мимика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Line 4"/>
          <p:cNvSpPr/>
          <p:nvPr/>
        </p:nvSpPr>
        <p:spPr>
          <a:xfrm>
            <a:off x="609480" y="1295280"/>
            <a:ext cx="8305920" cy="0"/>
          </a:xfrm>
          <a:prstGeom prst="line">
            <a:avLst/>
          </a:prstGeom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298440" y="158760"/>
            <a:ext cx="8418600" cy="12794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0" y="1676160"/>
            <a:ext cx="9144000" cy="453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току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раст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развој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индивидуе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ОФ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систем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развиј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мењ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складу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са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lnSpc>
                <a:spcPct val="80000"/>
              </a:lnSpc>
              <a:spcBef>
                <a:spcPts val="649"/>
              </a:spcBef>
              <a:buClr>
                <a:srgbClr val="e66c7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развојем</a:t>
            </a:r>
            <a:r>
              <a:rPr b="0" lang="sr-Latn-C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околних</a:t>
            </a:r>
            <a:r>
              <a:rPr b="0" lang="sr-Latn-C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органа</a:t>
            </a:r>
            <a:r>
              <a:rPr b="0" lang="sr-Latn-C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и</a:t>
            </a:r>
            <a:r>
              <a:rPr b="0" lang="sr-Latn-C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структура</a:t>
            </a:r>
            <a:r>
              <a:rPr b="0" lang="sr-Latn-C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и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lnSpc>
                <a:spcPct val="80000"/>
              </a:lnSpc>
              <a:spcBef>
                <a:spcPts val="649"/>
              </a:spcBef>
              <a:buClr>
                <a:srgbClr val="e66c7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функцијским</a:t>
            </a:r>
            <a:r>
              <a:rPr b="0" lang="sr-Latn-C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захтевима</a:t>
            </a:r>
            <a:r>
              <a:rPr b="0" lang="sr-Latn-CS" sz="26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29120" indent="-312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29120" indent="-312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Адаптациј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функционално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трошење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је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нормалан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процес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који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одвиј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током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читавог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живот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15320" indent="-267120">
              <a:lnSpc>
                <a:spcPct val="120000"/>
              </a:lnSpc>
              <a:spcBef>
                <a:spcPts val="550"/>
              </a:spcBef>
              <a:buClr>
                <a:srgbClr val="ff3f8d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Ремоделирање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коштаних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структура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виличног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скелета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и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ТМЗ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15320" indent="-267120">
              <a:lnSpc>
                <a:spcPct val="80000"/>
              </a:lnSpc>
              <a:spcBef>
                <a:spcPts val="550"/>
              </a:spcBef>
              <a:buClr>
                <a:srgbClr val="ff0066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Компезаторна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ерупција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зуба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15320" indent="-267120">
              <a:lnSpc>
                <a:spcPct val="80000"/>
              </a:lnSpc>
              <a:spcBef>
                <a:spcPts val="550"/>
              </a:spcBef>
              <a:buClr>
                <a:srgbClr val="ff0066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Мезијална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миграција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зуба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15320" indent="-267120">
              <a:lnSpc>
                <a:spcPct val="80000"/>
              </a:lnSpc>
              <a:spcBef>
                <a:spcPts val="550"/>
              </a:spcBef>
              <a:buClr>
                <a:srgbClr val="ff0066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Абразија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15320" indent="-267120">
              <a:lnSpc>
                <a:spcPct val="80000"/>
              </a:lnSpc>
              <a:spcBef>
                <a:spcPts val="550"/>
              </a:spcBef>
              <a:buClr>
                <a:srgbClr val="ff0066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Промене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у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оклузалним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односима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29120" indent="-312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Line 4"/>
          <p:cNvSpPr/>
          <p:nvPr/>
        </p:nvSpPr>
        <p:spPr>
          <a:xfrm>
            <a:off x="609480" y="1523880"/>
            <a:ext cx="8382240" cy="0"/>
          </a:xfrm>
          <a:prstGeom prst="line">
            <a:avLst/>
          </a:prstGeom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36512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4642920" y="2060280"/>
            <a:ext cx="4753080" cy="442116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lIns="54720" tIns="91440" anchor="t">
            <a:normAutofit/>
          </a:bodyPr>
          <a:p>
            <a:pPr marL="438120" indent="-318960">
              <a:buClr>
                <a:srgbClr val="6666ff"/>
              </a:buClr>
              <a:buSzPct val="17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ffff"/>
                </a:solidFill>
                <a:latin typeface="Corbel"/>
              </a:rPr>
              <a:t>Присуство</a:t>
            </a:r>
            <a:r>
              <a:rPr b="1" lang="de-DE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Corbel"/>
              </a:rPr>
              <a:t>ексцесивних</a:t>
            </a:r>
            <a:r>
              <a:rPr b="1" lang="de-DE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Corbel"/>
              </a:rPr>
              <a:t>сил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rbel"/>
              </a:rPr>
              <a:t>         </a:t>
            </a: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- </a:t>
            </a:r>
            <a:r>
              <a:rPr b="0" lang="bs-Cyrl-BA" sz="2400" spc="-1" strike="noStrike">
                <a:solidFill>
                  <a:srgbClr val="cc99ff"/>
                </a:solidFill>
                <a:latin typeface="Corbel"/>
              </a:rPr>
              <a:t>малоклузиј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         </a:t>
            </a: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- </a:t>
            </a:r>
            <a:r>
              <a:rPr b="0" lang="bs-Cyrl-BA" sz="2400" spc="-1" strike="noStrike">
                <a:solidFill>
                  <a:srgbClr val="cc99ff"/>
                </a:solidFill>
                <a:latin typeface="Corbel"/>
              </a:rPr>
              <a:t>оклузалне</a:t>
            </a: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cc99ff"/>
                </a:solidFill>
                <a:latin typeface="Corbel"/>
              </a:rPr>
              <a:t>сметњ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         </a:t>
            </a: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- </a:t>
            </a:r>
            <a:r>
              <a:rPr b="0" lang="bs-Cyrl-BA" sz="2400" spc="-1" strike="noStrike">
                <a:solidFill>
                  <a:srgbClr val="cc99ff"/>
                </a:solidFill>
                <a:latin typeface="Corbel"/>
              </a:rPr>
              <a:t>одсуство</a:t>
            </a: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cc99ff"/>
                </a:solidFill>
                <a:latin typeface="Corbel"/>
              </a:rPr>
              <a:t>бочних</a:t>
            </a: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cc99ff"/>
                </a:solidFill>
                <a:latin typeface="Corbel"/>
              </a:rPr>
              <a:t>зуб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         </a:t>
            </a: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- </a:t>
            </a:r>
            <a:r>
              <a:rPr b="0" lang="bs-Cyrl-BA" sz="2400" spc="-1" strike="noStrike">
                <a:solidFill>
                  <a:srgbClr val="cc99ff"/>
                </a:solidFill>
                <a:latin typeface="Corbel"/>
              </a:rPr>
              <a:t>парафункциј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6666ff"/>
              </a:buClr>
              <a:buSzPct val="17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ffff"/>
                </a:solidFill>
                <a:latin typeface="Corbel"/>
              </a:rPr>
              <a:t>Снижење</a:t>
            </a:r>
            <a:r>
              <a:rPr b="1" lang="de-DE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Corbel"/>
              </a:rPr>
              <a:t>физиолошке</a:t>
            </a:r>
            <a:r>
              <a:rPr b="1" lang="de-DE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Corbel"/>
              </a:rPr>
              <a:t>толеранције</a:t>
            </a:r>
            <a:r>
              <a:rPr b="1" lang="de-DE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Corbel"/>
              </a:rPr>
              <a:t>ОФ</a:t>
            </a:r>
            <a:r>
              <a:rPr b="1" lang="de-DE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Corbel"/>
              </a:rPr>
              <a:t>ткив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rbel"/>
              </a:rPr>
              <a:t>         </a:t>
            </a:r>
            <a:r>
              <a:rPr b="0" lang="de-DE" sz="2400" spc="-1" strike="noStrike">
                <a:solidFill>
                  <a:srgbClr val="c498fe"/>
                </a:solidFill>
                <a:latin typeface="Corbel"/>
              </a:rPr>
              <a:t>- </a:t>
            </a:r>
            <a:r>
              <a:rPr b="0" lang="bs-Cyrl-BA" sz="2400" spc="-1" strike="noStrike">
                <a:solidFill>
                  <a:srgbClr val="c498fe"/>
                </a:solidFill>
                <a:latin typeface="Corbel"/>
              </a:rPr>
              <a:t>л</a:t>
            </a:r>
            <a:r>
              <a:rPr b="0" i="1" lang="bs-Cyrl-BA" sz="2400" spc="-1" strike="noStrike">
                <a:solidFill>
                  <a:srgbClr val="c498fe"/>
                </a:solidFill>
                <a:latin typeface="Corbel"/>
              </a:rPr>
              <a:t>окална</a:t>
            </a:r>
            <a:r>
              <a:rPr b="0" i="1" lang="de-DE" sz="2400" spc="-1" strike="noStrike">
                <a:solidFill>
                  <a:srgbClr val="c498fe"/>
                </a:solidFill>
                <a:latin typeface="Corbel"/>
              </a:rPr>
              <a:t> </a:t>
            </a:r>
            <a:r>
              <a:rPr b="0" i="1" lang="bs-Cyrl-BA" sz="2400" spc="-1" strike="noStrike">
                <a:solidFill>
                  <a:srgbClr val="c498fe"/>
                </a:solidFill>
                <a:latin typeface="Corbel"/>
              </a:rPr>
              <a:t>обољењ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c498fe"/>
                </a:solidFill>
                <a:latin typeface="Corbel"/>
              </a:rPr>
              <a:t>         </a:t>
            </a:r>
            <a:r>
              <a:rPr b="0" i="1" lang="de-DE" sz="2400" spc="-1" strike="noStrike">
                <a:solidFill>
                  <a:srgbClr val="c498fe"/>
                </a:solidFill>
                <a:latin typeface="Corbel"/>
              </a:rPr>
              <a:t>- </a:t>
            </a:r>
            <a:r>
              <a:rPr b="0" i="1" lang="bs-Cyrl-BA" sz="2400" spc="-1" strike="noStrike">
                <a:solidFill>
                  <a:srgbClr val="c498fe"/>
                </a:solidFill>
                <a:latin typeface="Corbel"/>
              </a:rPr>
              <a:t>системска</a:t>
            </a:r>
            <a:r>
              <a:rPr b="0" i="1" lang="de-DE" sz="2400" spc="-1" strike="noStrike">
                <a:solidFill>
                  <a:srgbClr val="c498fe"/>
                </a:solidFill>
                <a:latin typeface="Corbel"/>
              </a:rPr>
              <a:t> </a:t>
            </a:r>
            <a:r>
              <a:rPr b="0" i="1" lang="bs-Cyrl-BA" sz="2400" spc="-1" strike="noStrike">
                <a:solidFill>
                  <a:srgbClr val="c498fe"/>
                </a:solidFill>
                <a:latin typeface="Corbel"/>
              </a:rPr>
              <a:t>оболјењ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Oval 4"/>
          <p:cNvSpPr/>
          <p:nvPr/>
        </p:nvSpPr>
        <p:spPr>
          <a:xfrm>
            <a:off x="395280" y="2060640"/>
            <a:ext cx="2160720" cy="107928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path path="rect">
              <a:fillToRect l="50000" t="50000" r="50000" b="50000"/>
            </a:path>
          </a:gradFill>
          <a:ln w="0">
            <a:solidFill>
              <a:srgbClr val="000000"/>
            </a:solidFill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Oval 5"/>
          <p:cNvSpPr/>
          <p:nvPr/>
        </p:nvSpPr>
        <p:spPr>
          <a:xfrm>
            <a:off x="2438280" y="2438280"/>
            <a:ext cx="2602080" cy="17114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solidFill>
              <a:srgbClr val="000000"/>
            </a:solidFill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Oval 6"/>
          <p:cNvSpPr/>
          <p:nvPr/>
        </p:nvSpPr>
        <p:spPr>
          <a:xfrm>
            <a:off x="3132000" y="5300640"/>
            <a:ext cx="1908360" cy="10796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solidFill>
              <a:srgbClr val="000000"/>
            </a:solidFill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3303360" y="5589720"/>
            <a:ext cx="1572480" cy="4597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5a63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ТМ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Oval 8"/>
          <p:cNvSpPr/>
          <p:nvPr/>
        </p:nvSpPr>
        <p:spPr>
          <a:xfrm>
            <a:off x="152280" y="4221000"/>
            <a:ext cx="2979720" cy="19512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solidFill>
              <a:srgbClr val="000000"/>
            </a:solidFill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9"/>
          <p:cNvSpPr/>
          <p:nvPr/>
        </p:nvSpPr>
        <p:spPr>
          <a:xfrm>
            <a:off x="-983160" y="4508640"/>
            <a:ext cx="4573440" cy="134388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5a63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Утицај</a:t>
            </a:r>
            <a:r>
              <a:rPr b="1" lang="de-DE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локалн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или</a:t>
            </a:r>
            <a:r>
              <a:rPr b="1" lang="de-DE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системс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de-DE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факт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10"/>
          <p:cNvSpPr/>
          <p:nvPr/>
        </p:nvSpPr>
        <p:spPr>
          <a:xfrm>
            <a:off x="2271960" y="2637000"/>
            <a:ext cx="2965320" cy="1343880"/>
          </a:xfrm>
          <a:prstGeom prst="rect">
            <a:avLst/>
          </a:prstGeom>
          <a:noFill/>
          <a:ln w="0">
            <a:noFill/>
          </a:ln>
          <a:effectLst>
            <a:outerShdw dist="45929" dir="7428877" blurRad="0" rotWithShape="0">
              <a:srgbClr val="5a63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Физиолош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толеран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О</a:t>
            </a:r>
            <a:r>
              <a:rPr b="1" lang="de-DE" sz="24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Ф</a:t>
            </a:r>
            <a:r>
              <a:rPr b="1" lang="de-DE" sz="24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тк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11"/>
          <p:cNvSpPr/>
          <p:nvPr/>
        </p:nvSpPr>
        <p:spPr>
          <a:xfrm>
            <a:off x="204120" y="2133720"/>
            <a:ext cx="2541600" cy="9018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5a63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Нормал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функ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Line 12"/>
          <p:cNvSpPr/>
          <p:nvPr/>
        </p:nvSpPr>
        <p:spPr>
          <a:xfrm flipH="1" flipV="1">
            <a:off x="1042200" y="3293280"/>
            <a:ext cx="71640" cy="855720"/>
          </a:xfrm>
          <a:prstGeom prst="line">
            <a:avLst/>
          </a:prstGeom>
          <a:noFill/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13"/>
          <p:cNvSpPr/>
          <p:nvPr/>
        </p:nvSpPr>
        <p:spPr>
          <a:xfrm flipV="1">
            <a:off x="2698920" y="4039560"/>
            <a:ext cx="433080" cy="361800"/>
          </a:xfrm>
          <a:prstGeom prst="line">
            <a:avLst/>
          </a:prstGeom>
          <a:noFill/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Line 14"/>
          <p:cNvSpPr/>
          <p:nvPr/>
        </p:nvSpPr>
        <p:spPr>
          <a:xfrm>
            <a:off x="3995640" y="4221000"/>
            <a:ext cx="71640" cy="976320"/>
          </a:xfrm>
          <a:prstGeom prst="line">
            <a:avLst/>
          </a:prstGeom>
          <a:noFill/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15"/>
          <p:cNvSpPr/>
          <p:nvPr/>
        </p:nvSpPr>
        <p:spPr>
          <a:xfrm>
            <a:off x="609480" y="1447920"/>
            <a:ext cx="8305920" cy="0"/>
          </a:xfrm>
          <a:prstGeom prst="line">
            <a:avLst/>
          </a:prstGeom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43080" indent="-343080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orbel"/>
              </a:rPr>
              <a:t>Иницирајући фактор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orbel"/>
              </a:rPr>
              <a:t>Предиспонирајући фактор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orbel"/>
              </a:rPr>
              <a:t>Перпетуирајући фактор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0" name="Rounded Rectangle 4" descr=""/>
          <p:cNvPicPr/>
          <p:nvPr/>
        </p:nvPicPr>
        <p:blipFill>
          <a:blip r:embed="rId5"/>
          <a:stretch/>
        </p:blipFill>
        <p:spPr>
          <a:xfrm>
            <a:off x="4346640" y="2475000"/>
            <a:ext cx="4419360" cy="1182600"/>
          </a:xfrm>
          <a:prstGeom prst="rect">
            <a:avLst/>
          </a:prstGeom>
          <a:ln w="0">
            <a:noFill/>
          </a:ln>
        </p:spPr>
      </p:pic>
      <p:pic>
        <p:nvPicPr>
          <p:cNvPr id="451" name="Rounded Rectangle 5" descr=""/>
          <p:cNvPicPr/>
          <p:nvPr/>
        </p:nvPicPr>
        <p:blipFill>
          <a:blip r:embed="rId6"/>
          <a:stretch/>
        </p:blipFill>
        <p:spPr>
          <a:xfrm>
            <a:off x="914400" y="3657600"/>
            <a:ext cx="3657600" cy="1828800"/>
          </a:xfrm>
          <a:prstGeom prst="rect">
            <a:avLst/>
          </a:prstGeom>
          <a:ln w="0">
            <a:noFill/>
          </a:ln>
        </p:spPr>
      </p:pic>
      <p:pic>
        <p:nvPicPr>
          <p:cNvPr id="452" name="Rounded Rectangle 6" descr=""/>
          <p:cNvPicPr/>
          <p:nvPr/>
        </p:nvPicPr>
        <p:blipFill>
          <a:blip r:embed="rId7"/>
          <a:stretch/>
        </p:blipFill>
        <p:spPr>
          <a:xfrm>
            <a:off x="5181480" y="4041720"/>
            <a:ext cx="3181320" cy="914400"/>
          </a:xfrm>
          <a:prstGeom prst="rect">
            <a:avLst/>
          </a:prstGeom>
          <a:ln w="0">
            <a:noFill/>
          </a:ln>
        </p:spPr>
      </p:pic>
      <p:pic>
        <p:nvPicPr>
          <p:cNvPr id="453" name="Rounded Rectangle 7" descr=""/>
          <p:cNvPicPr/>
          <p:nvPr/>
        </p:nvPicPr>
        <p:blipFill>
          <a:blip r:embed="rId8"/>
          <a:stretch/>
        </p:blipFill>
        <p:spPr>
          <a:xfrm>
            <a:off x="3505320" y="5619600"/>
            <a:ext cx="3736800" cy="725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410400" y="1340280"/>
            <a:ext cx="8292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Питања за активност у настави   I  неде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Орофацијални сис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Анатомске компоненте oрофацијалног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Функције орофацијалног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Функционално трошење и адаптација ОФ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Механизми поремећаја ОФ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16:53:31Z</dcterms:created>
  <dc:creator>Sinobad Vladimir</dc:creator>
  <dc:description/>
  <dc:language>en-US</dc:language>
  <cp:lastModifiedBy>Office2010</cp:lastModifiedBy>
  <dcterms:modified xsi:type="dcterms:W3CDTF">2017-08-27T12:39:56Z</dcterms:modified>
  <cp:revision>76</cp:revision>
  <dc:subject/>
  <dc:title>UVOD U GNATOLOGIJU</dc:title>
</cp:coreProperties>
</file>